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2C48-C60B-4611-99BD-CFFE391E1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quality resources and activities related to the academic standard can be found with a simple search using any online search engine. Before “recreating the wheel,” take a moment to check some out. Some are better than others, but you will likely find a good nugget or two you can put to good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could be taken one step further by asking students to create a small worksheet they could use to assess the credibility of information found online for any of their academic classes.</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BA81-2EE2-42BA-9B3F-B3341179D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83CD-BFC9-419F-9834-93ACBF6A2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individually, by writing, or in small group discussion, ask students to respond to the questions.</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7FBF-C90F-46B4-8250-14C0209E3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 students through a discussion regarding credibility of resources using the following prompts and techniqu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t the opinions presented (brief paraphrase) on the white board as students share them alou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k students to list reasons as to why hearing opinions from both sides of an issue is importa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k students why it is critical to become informed citizens who can hear multiple viewpoints and distinguish fact from opinion.</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are some of the ways we can identify if something is providing fact or opinion?</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sure the following points are covered:</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gure out who published the information.</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on alert for hidden agendas.</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n the periphery of a webpage or printed literature for clues.</a:t>
            </a:r>
            <a:endParaRPr b="0" lang="en-US" sz="1200" spc="-1" strike="noStrike">
              <a:solidFill>
                <a:srgbClr val="000000"/>
              </a:solidFill>
              <a:latin typeface="Calibri"/>
            </a:endParaRPr>
          </a:p>
          <a:p>
            <a:pPr lvl="4" marL="1828800">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oes the web address end?( .com, .org, .net, .edu, or .gov)</a:t>
            </a:r>
            <a:endParaRPr b="0" lang="en-US" sz="1200" spc="-1" strike="noStrike">
              <a:solidFill>
                <a:srgbClr val="000000"/>
              </a:solidFill>
              <a:latin typeface="Calibri"/>
            </a:endParaRPr>
          </a:p>
          <a:p>
            <a:pPr lvl="4" marL="1828800">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there obvious sponsors or groups that may have provided funding for the page?</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eck whether credible sources cited.</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ess the credibility of other websites to which the page link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ide students through the above strategies as the class helps you assess each of the items abov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ess student understanding of the concept of establishing credibility. If needed, guide them through another example as a class.</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C628-AFD5-4BA3-A1C6-6A6A23294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 students through a discussion regarding credibility of resources using the following prompts and technique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t the opinions presented (brief paraphrase) on the white board as students share them alou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k students to list reasons as to why hearing opinions from both sides of an issue is importa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k students why it is critical to become informed citizens who can hear multiple viewpoints and distinguish fact from opinion.</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are some of the ways we can identify if something is providing fact or opinion?</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sure the following points are covered:</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gure out who published the information.</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on alert for hidden agendas.</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n the periphery of a webpage or printed literature for clues.</a:t>
            </a:r>
            <a:endParaRPr b="0" lang="en-US" sz="1200" spc="-1" strike="noStrike">
              <a:solidFill>
                <a:srgbClr val="000000"/>
              </a:solidFill>
              <a:latin typeface="Calibri"/>
            </a:endParaRPr>
          </a:p>
          <a:p>
            <a:pPr lvl="4" marL="1828800">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oes the web address end?( .com, .org, .net, .edu, or .gov)</a:t>
            </a:r>
            <a:endParaRPr b="0" lang="en-US" sz="1200" spc="-1" strike="noStrike">
              <a:solidFill>
                <a:srgbClr val="000000"/>
              </a:solidFill>
              <a:latin typeface="Calibri"/>
            </a:endParaRPr>
          </a:p>
          <a:p>
            <a:pPr lvl="4" marL="1828800">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there obvious sponsors or groups that may have provided funding for the page?</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eck whether credible sources cited.</a:t>
            </a:r>
            <a:endParaRPr b="0" lang="en-US" sz="1200" spc="-1" strike="noStrike">
              <a:solidFill>
                <a:srgbClr val="000000"/>
              </a:solidFill>
              <a:latin typeface="Calibri"/>
            </a:endParaRPr>
          </a:p>
          <a:p>
            <a:pPr lvl="4" marL="1828800">
              <a:spcBef>
                <a:spcPts val="451"/>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ess the credibility of other websites to which the page link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ide students through the above strategies as the class helps you assess each of the items above.</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ess student understanding of the concept of establishing credibility. If needed, guide them through another example as a class.</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DE07-11E4-4802-B775-A35656A0F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students with additional examples of opinions surrounding the harvesting/hunting of wildlife. (Either have students at a computer, or provide groups with literature printed off websites of your choice.)</a:t>
            </a: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21CB-FBE2-4552-9908-AD325142F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students with the list of strategies/questions used to assess credibility in the guided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B1AC-D59B-4865-A55A-D38866B35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specific literature, watch a documentary-style video clip, or read information aloud to students from this web l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umanesociety.org/issues/bear_hunting/Background information f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individually, by writing, or in small group discussion, ask students to respond to the questions.</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5341-3475-4D16-8D83-E5624A1EB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88821-3297-4286-9527-FFD7360A7F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3AD04103-3DA0-4426-A80A-1E4C20C8D90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795FD-C930-4935-9529-654A19FAF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560356-E12C-4810-96E7-9B4CE52DD1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0D7FF6-871E-454E-B5A9-003B9776BD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AD58E2-C994-4A94-8B2A-12ECBAA1BD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C2B6BD-D6D0-4BEC-82B7-EB410FE303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B72041-2861-4AB6-B5E2-9FDBE561C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2E3953-3DCC-4DC3-916D-699B164095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DE556C-1AC7-45E2-AA72-D9673BB0AE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D2F216-A3D8-49F9-B1BA-88F2C3DC0D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329324-8294-484F-911A-0A62DFD9BF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DC329FC6-E466-4ED0-A50E-89F4C70D05B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7900D7-FE85-44DF-9DC0-28DF9038C8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F3FCE2-8E63-45B9-8989-001F4BF176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8201D9-5BA4-4511-B69C-8F05FFCCE2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D96F1E-64D3-4154-9B52-46EC569D2F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B69175-CE62-49A8-8A8D-3492EF714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BCBA7-1309-4552-A51B-AC7E71A533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DBD1D2-03BB-401A-9607-6602673E5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F1BA79-1142-4341-9AC0-996258D4C4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CDFB66-170C-435F-8859-E2E11F4F81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AB29C3-DA9F-4B60-B2E0-B46845F202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1D46CF67-D149-4837-92A3-2004A4CE67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57E66A-93CD-4BDB-BAB9-7DB8D569F9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0F0AF3-D449-493E-9004-CCF35EDF0E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80C7EB-24D6-47E3-A4CD-DAE458416C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604EB6-D360-46E6-B542-BCBA70FD8A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4CCD7D-8E33-45D2-9810-A66CFB63DD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5ABDC3-7511-4919-A10D-E8DF8AC27C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84B705-3AC0-429F-907C-9F80617D35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1FEACC-B0BB-4BE4-9837-D9949FFED5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99DFEA-9BFB-4500-BB33-056D866746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8E8031-8CDA-4FD1-8431-CE3F1027AB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03556B-8FB7-4061-9B0E-132D24511D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AB1A51-B9A3-4460-B056-2BBD0BC28B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2D4FDB2-9484-44FC-9492-F9122F43BC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3976E7-5CC2-41BE-8422-22CB8FA17D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44A7C1-F31A-448D-BB6A-1E3A215B43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00EFD7-52A2-4284-B986-44F4A2B84D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A5F6CD-F3B6-4780-99F4-1DCD79C143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5BB75E-CD43-45EA-874B-E8779A9F8E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EEC356-AA05-40D9-8B04-202178A290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51EFE3-9112-4DB9-8F13-37681DB4DD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C38D35-AFC9-48D8-8E65-184F58C6B2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A2EFA7BE-9E48-4EAC-BE58-C68DC1479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3DCA07-8B6E-43EA-A9CB-CE7A257BEF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7C83A1-1018-4680-BFAD-F65A783ABE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0CF243-27DD-411C-BAB1-3A756C247D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8FEEB2D-2B4E-42B3-9521-B4D1F01304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8D19F5-267A-45BB-9B59-06348A1617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18ABDACC-7582-41B0-9B9C-CB6C6E91E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9848FB4F-B35C-4027-8A26-762FEF915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477EA945-9CC8-4BFD-ABEC-127497011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328AA13F-BD53-4A2D-BE1D-364476B052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51984800-435C-45FB-8E98-4DEA8E37B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1A11D364-CAE8-44CC-AB7C-8C54EB6E88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256C3658-178D-4C38-970A-60DBC93CA7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A48E81C-D3E9-4F5F-B664-803A11F26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2E77A2A1-2B95-4578-AC24-37A17C8E9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9088649F-9146-4C81-9792-976D6B8025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38B339E5-2299-4338-82AA-E38FD424B3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C2350-EF0C-4FE1-AB22-10FB9C67A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28176-5726-4D94-BE34-1288E1A24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0F3B0-D781-43C7-94AC-A02CD5DD1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3F831-8408-4883-8D5D-4B3EDEB77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7D9A7-8362-4402-A5A2-1A7128239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55B89E69-528C-458D-B513-9AC774AAAF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F2553-C120-442E-98D2-5EB4FD074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5383F-044C-44A4-ACD1-1F289C972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52071-AB3D-4181-AF29-686AB0CE4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761D8-A184-4FAB-94BD-472B7865C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D166D-5BC8-4529-8E89-4B13AE264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BA111-F135-444A-B259-FE46691B0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46EB6-7230-4D5D-8706-27B6CC63C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F8E541-FDDF-4276-8C62-E27D7476E5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894251-5E8F-4F61-A186-41BB063504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F2816-4442-432F-AAC6-A23462AA9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9AE212F3-20FD-467E-B6B7-945E209990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96E906-751A-4831-933F-BEE9E8313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61897-8A97-42A5-8D8B-8634E0709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A2843-200F-4E6C-A2C5-B1A620C1F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BB24D5-E2E9-4117-9E91-CEF03AFF2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7EDCC-7638-4A32-9DBB-83006203F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CD484-5713-462C-BE1E-D68A9D2EA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96CDD-96EB-47CF-A1FB-B78D20964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A0E700-082E-41FB-B787-285CA5C2E3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3DE2B0-C398-4C15-BF17-CB9D0A604A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83772D-72CC-475A-AD3B-B07D627512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740585B9-79AA-4534-8FC1-BD38DEB0B6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C9BA8B-B2D4-4188-8777-BC31CDF38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AAB34E-D8BE-4CF2-91E8-E29F46A2BE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87864D-30E6-4ADF-89AD-8E72D3A3ED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1EC05-940D-4A11-944C-B8B770AE3A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E3624C-777D-4A79-805E-FE157B33CC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9521F-13C6-4D70-885B-B47B40F0F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E6FD2-F838-4AF9-8648-34B9596AE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49D207-6197-47C5-A99B-E07FB4938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D4ABD-A981-433F-896B-A27465F25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8018E2-B21E-47D8-973A-0EB3E4454B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0082A06B-DAD2-4882-8194-6533832A04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9D77E3-5AE8-4A5E-8BF3-A3A8F2878F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D4ECAA-73CE-4D01-84F6-A7AAD4B7C2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CE99B0-287B-45EA-AA73-8111015CB8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105A7A-7DB1-4F73-BF4F-FD6E2E335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ADB44-5AE9-4DB7-BB7D-7B5B7A14CD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ABCEE-EFE2-4748-BDA1-0AD2275120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FD17D9-9083-4CDE-9567-81D34E5E3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5B306-7A20-441F-B023-039FBA1DA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42E33-AE9A-4460-BC99-1F652BD12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3F08D-483B-4C61-856C-CDC1CFE06D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3C8AC642-7D79-49FE-BE1E-20CF67C6D10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3001A2-DCC8-4550-9A27-68E581E82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EC0337-BA44-4DCB-80B4-F9040538AD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4AF31E-FA70-4DF5-8A92-A190043171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23A41C-2F92-429B-9A00-05C8BC082B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A9995-8566-4395-809A-B6FC3713C7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DEB763-A2DC-473C-A593-A8C34FEFFF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C4BB39-11D9-4C39-9325-6AD913E9D8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D7155C-32B2-403E-BA31-C6A120C7C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097093-4D74-45A4-A172-5B010E59D8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A16740-FEE8-4A64-9937-D792827BA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C8799868-E815-4895-8E6D-29F095D79D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F0011-0D45-40C9-9BE1-14AE443E9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2E9E59-900D-411A-B384-28304B0C77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512A10-4CB4-4A52-9F26-2CF5C94B6D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4F774A-91BC-4833-8992-DAE990BDC4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759C71-B806-498F-BE5C-D89A72ED86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141C3F-1E66-4773-B550-D194E22BA5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FE41CD-41CB-42B9-A993-B412299CD4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2964AB-E5B6-414B-B0F3-15E42E0882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53969A-D9B7-43FD-A3FB-7FF7BAD7A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411F39-738A-47EE-BAB3-E9D3F224B8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9031A8BF-4CC0-4DAC-8426-799EAE989DD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2B5D0C-9C35-4276-8B9B-73F5539F1E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A0A01-EC6C-46D3-A34F-938D117DC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6FCA5-95FF-4FC1-9AB7-B0C96DA700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ED2F1-8977-4584-8CF0-0C4D06D3BF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FEF28C-25C1-4F2C-88BC-F4A80C42BC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5E5AD3-9666-46FB-B659-C15D0CA552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CBC82E-4D70-41AB-A5F5-1E85CA9004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AA882B-9A22-4AE0-8D33-632832B67E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7DE6BD-7222-47FD-BBD1-E6069F0EE7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95DDF-455B-4C12-91D2-91980FEFE5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83FD-0EB2-40B9-A711-26D269071AB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B19C-7D37-4DE1-B5B5-A6E93CF87F4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50BC-DE42-46D3-8F0B-93074C643A8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565C-6629-4449-B4DF-D680084D279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4E74-E83A-44DE-ABEE-4AB95123C7B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6523-84DA-4CE4-BD2B-BE16763AFD3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5B75-100D-4E4E-9975-CA3E8770A0CC}"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D942-7DCC-44DE-9F73-8834BCA6D45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6922-4A08-404A-924F-823BB03BC59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8994-BAE1-4A0A-8248-FCB4C8AE507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B775-6585-4CCB-9B6C-8A32B88330F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B20C-5CFB-411F-9580-4A54FFD9EE2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3</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view some information about an opposing viewpoint(s) to the same issu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ttp://www.bearsinbc.com/pages/02grizzly/02integral.html</a:t>
            </a:r>
            <a:endParaRPr b="0" lang="en-US" sz="24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Great one to start with</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ttp://dnr.wi.gov/org/land/wildlife/hunt/bear/popndist.htm</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ttp://dnr.wi.gov/org/land/wildlife/PUBL/wlnotebook/bear.htm#mana</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spond to the following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is your initial reaction to hearing/reading/seeing this informatio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 what ways does it differ from the first example shared?</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would that same person you pictured in the last example respond to hearing thi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redibility of resourc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are some of the ways we can identify if something is providing fact or opinion?</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Figure out who published the information.</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Be on alert for hidden agendas.</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can the periphery of a webpage or printed literature for clue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How does the web address end?( .com, .org, .net, .edu, or .gov)</a:t>
            </a:r>
            <a:endParaRPr b="0" lang="en-US" sz="18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Are there obvious sponsors or groups that may have provided funding for the page?</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redibility of resourc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are some of the ways we can identify if something is providing fact or opinion?</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Check whether credible sources cited.</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Assess the credibility of other websites to which the page link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ore examples to review</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re are three tasks in this exercise:</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n issue surrounding the different viewpoints regarding hunting/harvesting wildlife within your geographic region or stat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 minimum of two websites with pages dedicated to the iss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or each website, capture notes addressing its credibilit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Students can analyze factors that influence the credibility of informational 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ildlife and Fisheries WR 2.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Discuss the importance of hunting/</a:t>
            </a:r>
            <a:br>
              <a:rPr sz="2800"/>
            </a:br>
            <a:r>
              <a:rPr b="0" lang="en-US" sz="2800" spc="-1" strike="noStrike">
                <a:solidFill>
                  <a:srgbClr val="4e3b30"/>
                </a:solidFill>
                <a:latin typeface="Verdana"/>
              </a:rPr>
              <a:t>harvesting fish and wildlife species and related responsibilit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different viewpoints of hunting/fishing by interviewing peopl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escribe wildlife harvesting techniques and procedure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management practices to protect fish and wildlife from overexploita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5.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factors that influence the credibility of informational sourc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uthorship.</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sponsorship.</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e live in the age of abundant and easily accessible information. Access to information can be priceless; it also can be damaging if used without caution.</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valuating resources for credibility can be an invaluable tool at any point throughout one’s life. Evaluating is a higher order thinking task and not necessarily an inherit skill.</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valuating the credibility of resources requires a system (even if informal) for establishing credibility and practice.</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s citizens, society benefits when its members are well informed and cognizant of differing viewpoints surrounding controversial issues. There are many times in life, especially outside of the academic world, when we are faced with information representing the opinion or beliefs of an individual or group of individual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gnize that opinions are not a bad thing, as they help us understand other peoples’ point of view.</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at said, it is critical that we are able to distinguish opinion, hypothesis, and hard fact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2286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GUIDED PRACTICE EXERCISES</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spond to the following questions regarding the humane societ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is your initial reaction in hearing/seeing this information? (How does it make you feel?)</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ould this information possibly cause you to change any of your previously held opinions on the matter or change any particular behavior?</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Picture someone you know well, but who you would consider to be very unlike you in his or her views/opinions/way of thinking. Describe how this person might respond to the above question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9:02:53Z</dcterms:modified>
  <cp:revision>27</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17026274</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